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00A-349B-412F-A911-2599FAD3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E5D-7355-4B5E-B7B0-DA81274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EFE-2DEB-4A3A-B324-FD5683CF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06E-5C49-46B7-8F76-222F1AD0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2E6-E1C8-48BE-996D-13C79D5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CF8-B9B1-4EE6-8809-A1A8AB8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DA0-00C1-4243-A6BA-63C718A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DB4-AE68-4C35-BA55-9853EEC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637-EF21-457F-8B70-97D175C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386-9144-4D0F-9783-EEE3A69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3A6-D841-4720-92F1-D21ADD1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C56-F2FF-4279-AE72-78D2AB8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B4A-FF9A-42A6-B8BF-1194C7C16A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ος δε Ἰησους οὐκ ἐπιστευεν ἑαυτον αὐτ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 αὐτοις∙ ‘Υμεις ἐκ τουτου του κοσμου ἐστε, ἐγω οὐκ εἰμι ἐκ του κοσμου τουτ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τοιαυταις παραβολαις πολλαις ἐλαλει αὐτοις τον λο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ρχονται παλιν εἰς Ἱεροσολυμα. και ἐν τῳ ἱερῳ περιπατει ὁ Ἰησους και ἐρχονται προς αὐτον οἱ Ἰουδαιο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ον οὐν οἱ Ἰουδαιοι προς ἑαυτους∙ Που οὑτος μελλει ἐρχεσθ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 του θεου ἐσμεν και ὁ κοσμος ὁλος ἐν τῳ πονηρῳ ἐστι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 αὐτοις∙ Ὑμιν το μυστηριον διδασκω της βασιλειας του θεου∙ ἐκεινοις δε τοις ἐξω ἐν παραβολαις ταυτα λεγ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γαρ ὁ Ἰωαννης τῳ Ἡρῳδῃ∙ Οὐκ ἐξεστιν σοι ἐχειν την γυναικ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600" spc="-1" strike="noStrike">
                <a:solidFill>
                  <a:srgbClr val="000000"/>
                </a:solidFill>
                <a:latin typeface="Gentium"/>
              </a:rPr>
              <a:t>wif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υ ἀδελφου σ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my commandment: Have love for one another, because you are my disciple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am the bread of life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sus says to them, ‘I do not tell you (pl.) by (use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authority I am doing these things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ing received his sight, he was saying, ‘I see people, but they are walking about like tree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ζητουν οὐν τον Ἰησουν και ἐλεγον μετ’ ἀλληλων ἐν τῳ ἱερῳ∙ Πως ποιει ταυτ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στιν χαρα ἐν ὑμιν δια την ἀγαπην ὑμων τε και ἐμ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αδδουκαιο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dduce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ν γαρ λεγουσιν μη εἰναι ζωην μετα θανατον μητε ἀλλελον, Φαρισαιοι δε διδασκουσιν ταυ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γω δε σοι λεγω ὁτ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υ εἶ Πετρος, και ἐπι ταυτῃ τῃ πετρᾳ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ἰκοδομησω μου την ἐκκλησια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ραζον φωνῃ μεγαλῃ λεγοντες∙ Ἁγιον ἐστιν το ἀρνι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εγεν∙ Οὐ θελω το ποτηριον τουτο∙ ἀλλα τουτο θελεις, διο ἐγω δεξομαι αὐ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εἰ γαρ εἰσιν ἀλλοι θεοι εἰτε ἐν οὐρανῳ εἰτε ἐπι γης, ἡμιν ἐστιν εἰ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θεος∙ και γε οὑτος ἐστιν ὁ κυριος του οὐρανου και της γης∙ αὐτῳ ἀπα προσκυνησομε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τε προσκαλεσαμενος αὐτον ὁ κυριος αὐτου λεγει αὐτῳ, Δουλε πονηρε, ποιησω ἐκεινο σοι ἐπει παρεκαλεσας μ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harisees therefore were saying to him, ‘You are bearing witness about yourself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hole earth exists for his glory, so we bless him and give thank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 cast out demons by the authority of God, the reign of God is upon you (pl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the one hand, you come together with one another, on the other hand, you persecute one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1414440"/>
            <a:ext cx="8572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thew 16.13-18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θὼ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orist participle of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ὁ Ἰησοῦς εἰς τὰ μέρη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 regio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σαρείας τῆς Φιλίππου ἠρώτ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he began to as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ὺς μαθητὰς αὐτοῦ λέγω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, Τίν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whom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έγουσιν οἱ ἄνθρωποι εἶναι τὸν υἱὸν τοῦ ἀνθρώπ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tium"/>
              </a:rPr>
              <a:t>14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δὲ εἶπα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y sai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μὲν Ἰωάννην τὸν βαπτιστήν, ἄλλοι δὲ Ἠλίαν, ἕτερο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Ἰερεμίαν ἢ ἕν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ῶν προφητῶν. </a:t>
            </a: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5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λέγει αὐτοῖς, Ὑμεῖς δὲ τίνα με λέγετε εἶν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tium"/>
              </a:rPr>
              <a:t>16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ποκριθεὶ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 reply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ὲ Σίμων Πέτρος εἶπε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i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ὺ εἶ ὁ Χριστὸς ὁ υἱὸς τοῦ θεοῦ τοῦ ζῶντο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living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85840" y="200808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7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ἀποκριθεὶς δὲ ὁ Ἰησοῦς εἶπεν αὐτῷ, Μακάριος εἶ, Σίμων Βαριωνᾶ, ὅτι σὰρξ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lesh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ὶ αἷμ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κ ἀπεκάλυψέν σοι ἀλλ’ ὁ πατήρ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ου ὁ ἐν τοῖς οὐρανοῖς. </a:t>
            </a:r>
            <a:r>
              <a:rPr b="0" lang="el-GR" sz="2600" spc="-1" strike="noStrike" baseline="30000">
                <a:solidFill>
                  <a:srgbClr val="000000"/>
                </a:solidFill>
                <a:latin typeface="Gentium"/>
              </a:rPr>
              <a:t>18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καγὼ δέ σοι λέγω ὅτι σὺ εἶ Πέτρος, καὶ ἐπὶ ταύτῃ τῇ πέτρᾳ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ck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ἰκοδομήσω μου τὴν ἐκκλησίαν καὶ πύλ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ᾅδου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f Hades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 κατισχύσουσιν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y will overcome + gen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ῆς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12:41Z</dcterms:created>
  <dc:creator>Sarah</dc:creator>
  <dc:description/>
  <dc:language>en-US</dc:language>
  <cp:lastModifiedBy>Sarah</cp:lastModifiedBy>
  <dcterms:modified xsi:type="dcterms:W3CDTF">2009-07-09T18:27:25Z</dcterms:modified>
  <cp:revision>28</cp:revision>
  <dc:subject/>
  <dc:title>Slide 1</dc:title>
</cp:coreProperties>
</file>